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3C61-F427-4169-A11E-594E41C9A2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2BC-292B-467E-91AB-0ED708362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3B2-C9B0-4AEC-A197-B1CADD19C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EAF-36EF-412D-9144-0A021EE3B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A3A2-6C67-4966-BE28-D4EA829EA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F977-BD8E-4829-9056-BB346D5C1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9A1A-19A6-42D8-A7F5-2318636EC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5D4-C5B2-4A73-927B-B96A6D49A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1DD0-AA66-4F22-8236-FD3CF7864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D4B6-9731-4E37-A8F4-D6B9C3186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88D-9DD5-4E51-ADCD-A3970D8BE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B60E-F244-4E75-8196-1D3AA9667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156-69A9-4395-AA2D-1E2B9393B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54E-D973-42BE-A37F-AB85EE2CE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263E-7AB0-44D1-9E0C-9F7F44F9E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AB2-07C9-4AF3-B687-18A644948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EC4D-D40B-4445-A004-F423DA553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7389-E0E0-4C93-96BA-22F84C463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E5B2-FACB-4DF5-95C6-41349690D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CFD-36F9-4434-AA26-793487829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1EA-9AB2-4753-ACA3-265C117EA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896-8FE7-4454-BAC0-3D9EB8D2E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9769-653D-481A-95DC-2E5D5C081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43FF-D508-451E-83EF-291A03792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887F-E751-4229-85D6-5E71B91B8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E84F-0474-4C30-819D-3D3126044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266-6C9A-40C5-B2D6-4A8C526E9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5548-FD91-4A86-8ACA-49B8EEED1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329-22E7-4967-8475-1F5C79826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07F-30A9-4402-8DBF-03AF4DFB1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551C-43EA-43FD-971B-B143F6F7B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CA62-03BC-4AE1-9AC5-3841C04DE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5D7-6473-4990-8F11-0D83DC85B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C93-EF91-4997-981E-E41EC624D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00E-B281-455A-B5AC-6C1607211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D52-60BB-4D41-8987-2187C558A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BF29-5A58-4BD5-B2F5-A1E1F6AE2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45C-1B6D-40D6-B250-5C334D8FF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EC9D-E2D8-45F7-893E-7798F07F9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3367-CA2A-4948-A37B-31936E296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6ED-26D4-44F6-9468-D22CBC77E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AC6-D5BD-4253-AF38-9E89658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FDD-1AAC-4AD1-BF71-516527D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374-0CF6-4046-AE32-9CB0E795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948-E925-4921-BAFF-E4116087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E0B-3FE3-4347-B1A0-BBF24CCB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8BD-0771-484A-93EE-E61EE0AB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6C6-0336-429D-8F59-F0EA1F4D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8D8-1139-4C2C-98BF-A641442A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A97-C8DA-4720-AE6B-A633205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E83-737F-4D49-882B-E542223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BDC-BEC5-462C-A032-20165E1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98B-B18A-4B2E-8BBA-165243E7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95E9-5C1D-4112-91F1-EE0C5134DD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D18C-5DCC-49DC-B3A0-417A02410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_-RytPXcs0&amp;feature=relate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80880"/>
            <a:ext cx="9144000" cy="190512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5715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elcome to…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21262800">
            <a:off x="29880" y="549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ncient Indus River E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981080"/>
            <a:ext cx="9144000" cy="304920"/>
          </a:xfrm>
          <a:prstGeom prst="rect">
            <a:avLst/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prah-winfrey-sh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0880" y="2438280"/>
            <a:ext cx="799452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7"/>
          <p:cNvSpPr/>
          <p:nvPr/>
        </p:nvSpPr>
        <p:spPr>
          <a:xfrm flipV="1">
            <a:off x="533520" y="5867280"/>
            <a:ext cx="5410080" cy="5335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Near the Ind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Flo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Destroyed Fie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Need to Contro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Dirt/Earth Wal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Ca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Irri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North – Dry Pl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Domesticated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Water Buffa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What Kind of Crops did you grow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Whe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Cott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Lumb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Livestoc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R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Banan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Mustar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Bea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How did you transport the goods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Animal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+ C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Boats Alo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the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What was education lik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2,500 bc – nothing know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300 bc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Wrote 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Tree B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Palm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Where did School Take Plac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Temp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Cent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Ancient India Map.jpg"/>
          <p:cNvPicPr/>
          <p:nvPr/>
        </p:nvPicPr>
        <p:blipFill>
          <a:blip r:embed="rId1"/>
          <a:srcRect l="-54497" t="0" r="-54497" b="0"/>
          <a:stretch/>
        </p:blipFill>
        <p:spPr>
          <a:xfrm>
            <a:off x="-1781280" y="130320"/>
            <a:ext cx="1223352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alibri"/>
              </a:rPr>
              <a:t>Can you tell us about the Major Relgions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Hindu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Buddh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alibri"/>
              </a:rPr>
              <a:t>Can you tell us some more about Hinduism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Diver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Common belief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Body different from so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Reincar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Moving up in society from creatures on earth to different planet’s inhabit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alibri"/>
              </a:rPr>
              <a:t>Can you tell us more about Buddhism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2,500 years ag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Can b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Religious Rit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Worship of De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or just Pure Med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Suffering ends if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You understand the nature of the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What can you tell us about Ancient Indian Art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380880"/>
            <a:ext cx="4114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75,000 years a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Calibri"/>
              </a:rPr>
              <a:t>Carvings on Cave Wall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Calibri"/>
              </a:rPr>
              <a:t>Prehistoric ag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images.jpeg"/>
          <p:cNvPicPr/>
          <p:nvPr/>
        </p:nvPicPr>
        <p:blipFill>
          <a:blip r:embed="rId1"/>
          <a:stretch/>
        </p:blipFill>
        <p:spPr>
          <a:xfrm>
            <a:off x="6172200" y="152280"/>
            <a:ext cx="2657520" cy="331812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3" descr="images-1.jpeg"/>
          <p:cNvPicPr/>
          <p:nvPr/>
        </p:nvPicPr>
        <p:blipFill>
          <a:blip r:embed="rId2"/>
          <a:srcRect l="-30313" t="0" r="-30313" b="0"/>
          <a:stretch/>
        </p:blipFill>
        <p:spPr>
          <a:xfrm>
            <a:off x="4038480" y="3605040"/>
            <a:ext cx="41468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304920"/>
            <a:ext cx="3352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2,500 years ag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etailed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rucial Ro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mages-2.jpeg"/>
          <p:cNvPicPr/>
          <p:nvPr/>
        </p:nvPicPr>
        <p:blipFill>
          <a:blip r:embed="rId1"/>
          <a:stretch/>
        </p:blipFill>
        <p:spPr>
          <a:xfrm>
            <a:off x="3809880" y="1523880"/>
            <a:ext cx="49118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Yo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yoga.jpg"/>
          <p:cNvPicPr/>
          <p:nvPr/>
        </p:nvPicPr>
        <p:blipFill>
          <a:blip r:embed="rId1"/>
          <a:stretch/>
        </p:blipFill>
        <p:spPr>
          <a:xfrm>
            <a:off x="4038480" y="228600"/>
            <a:ext cx="47628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imeline - An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00 – 1500 bc – Harrappan Civ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00 – 1000 bc – Rule of Aryan Inv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- 500 bc – Epic age in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63 – 483 bc – Life of Budd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They Drew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Lea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unt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Indian art.jpg"/>
          <p:cNvPicPr/>
          <p:nvPr/>
        </p:nvPicPr>
        <p:blipFill>
          <a:blip r:embed="rId1"/>
          <a:stretch/>
        </p:blipFill>
        <p:spPr>
          <a:xfrm>
            <a:off x="4419720" y="2133720"/>
            <a:ext cx="447012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at was there in terms of Government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84807"/>
                </a:solidFill>
                <a:uFillTx/>
                <a:latin typeface="Calibri"/>
              </a:rPr>
              <a:t>Gener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Well Planned-ou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Complex City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Law + Punishment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Police Offic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84807"/>
                </a:solidFill>
                <a:uFillTx/>
                <a:latin typeface="Calibri"/>
              </a:rPr>
              <a:t>Post-Joi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Emperor had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Different governo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Like a small count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at were the Laws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Ancient Religious Tex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Kings Administered Law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Village Laws Administered by Members of Tow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What was the Culture Lik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ery Uni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ocial homes weren’t gr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ed Non-Essential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ay and Wooden To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ew Weapons – Conflict was lim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rts - very impor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Practices + Beliefs are still the same now </a:t>
            </a:r>
            <a:r>
              <a:rPr b="0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h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a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n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k 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y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ou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 f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o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r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w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t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c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h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i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n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g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.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.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oprah-winfrey-show.jpg"/>
          <p:cNvPicPr/>
          <p:nvPr/>
        </p:nvPicPr>
        <p:blipFill>
          <a:blip r:embed="rId1"/>
          <a:stretch/>
        </p:blipFill>
        <p:spPr>
          <a:xfrm>
            <a:off x="2198520" y="3581280"/>
            <a:ext cx="658368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 rot="21194400">
            <a:off x="705960" y="5907240"/>
            <a:ext cx="52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807"/>
                </a:solidFill>
                <a:latin typeface="Calibri"/>
              </a:rPr>
              <a:t>Ancient Indus River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6"/>
          <p:cNvSpPr/>
          <p:nvPr/>
        </p:nvSpPr>
        <p:spPr>
          <a:xfrm flipV="1">
            <a:off x="838080" y="6095880"/>
            <a:ext cx="4953240" cy="60984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84807"/>
                </a:solidFill>
                <a:uFillTx/>
                <a:latin typeface="Calibri"/>
              </a:rPr>
              <a:t>Our Gues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rt Specialist – Nick 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Education and Military Expert – Will Z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Religion Expert – Tyler 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Trade Expert – Jessica 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y did you all move down to the Indus River in the first Plac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2,500 b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No one’s 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Indus Flood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Fertile Soi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at did you do when you got ther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Far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Metal Too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Potte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et up Temp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How did you go about farming???</a:t>
            </a:r>
            <a:br>
              <a:rPr sz="7200"/>
            </a:b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What about trad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5:50:18Z</dcterms:created>
  <dc:creator>Jessica Cooper</dc:creator>
  <dc:description/>
  <dc:language>en-US</dc:language>
  <cp:lastModifiedBy>IT User</cp:lastModifiedBy>
  <dcterms:modified xsi:type="dcterms:W3CDTF">2010-10-06T11:10:35Z</dcterms:modified>
  <cp:revision>40</cp:revision>
  <dc:subject/>
  <dc:title>Slide 1</dc:title>
</cp:coreProperties>
</file>